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3927-4124-4E66-9B66-2EB86DEE7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6CD2-4E4A-4751-BBE3-8E6EED717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8894-0FF5-4166-83C8-D0A55AF2A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36BC-3672-44BF-8DDD-C1F817644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A8B7-5481-44AD-9B3E-9DF49E3D0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53CE-4FA1-4190-8FF4-ED71125FF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3979-7A39-4542-BC96-2DF5F5980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729E-7E8A-4367-8C9B-37A2B9EE4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6CEE-16A7-4310-8FBE-E04447EF1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FC9A-DB06-4AE2-B469-C7FB7CF2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58EF-FB03-4E16-A52F-35A0540A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E1B1-5931-4C16-B29C-2758C880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F2955B-0AA7-4799-A572-A938860507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itain's Relationship with the Colonies:  1700-176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27080" y="1690560"/>
            <a:ext cx="6531120" cy="47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rcantilis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conomic system in which a country controls trade with its colonies, and sells more than it buys, in order to make a pro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the British benef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tain controlled the price of goods, as the colonists could only sell to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tish could trade these products with other countries (like Spain or the Netherla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the colonists benef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had a guaranteed market (in Britain) for their g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this system hurt the coloni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prevented them from trading with other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colony did not have a product that the home country needed, it struggled to get reve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avigation 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implemented th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tish Parliament (their elected legislat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ere they cre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60's/1670's (after the Glorious Revolu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rules did they cre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rade had to use British-owned 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imports had to go through British 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ain products (sugar, tobacco, lumber, cotton, wool) could only be traded with Great Bri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vigation Acts,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were they cre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maintain British economic control over the colo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e they well enforc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!  After the Glorious Revolution, British Parliament did not tightly oversee the colonies, and colonial assemblies mostly governed thems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alutary Neglect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British gov't (Crown and Parliament) relaxed its control over the colonies, as both sides seemed to be benefi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dur="indefinite" fill="hold">
                      <p:stCondLst>
                        <p:cond delay="indefinite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dur="indefinite" fill="hold">
                      <p:stCondLst>
                        <p:cond delay="indefinite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nch and Indian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ce and its Native American al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tish/colonists and their Native American al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t of the larger “7 Years War” between France and Bri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rgely about colonial territorial poss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tish won, gained land with the Treaty of Paris (176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dur="indefinite" fill="hold">
                      <p:stCondLst>
                        <p:cond delay="indefinite"/>
                      </p:stCondLst>
                      <p:childTnLst>
                        <p:par>
                          <p:cTn id="1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dur="indefinite" fill="hold">
                      <p:stCondLst>
                        <p:cond delay="indefinite"/>
                      </p:stCondLst>
                      <p:childTnLst>
                        <p:par>
                          <p:cTn id="1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ritorial changes from the Peace of Paris (176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028880" y="1600200"/>
            <a:ext cx="8115120" cy="591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457200"/>
            <a:ext cx="9372600" cy="675792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 fontScale="87000"/>
          </a:bodyPr>
          <a:p>
            <a:pPr marL="3754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did the French and Indian War change British enforcement of the Navigation Ac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51320" indent="-2818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tain went into debt from war and tightened the la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1320" indent="-2818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he war, there were more British troops stationed in the colonies, so they could enforce laws more stri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54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54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was the relationship between colonists and Great Britain evolv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51320" indent="-2818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 against the French had somewhat united the colo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1320" indent="-2818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limination of France as a threat made them feel more independent (and less in need of British prote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dur="indefinite" fill="hold">
                      <p:stCondLst>
                        <p:cond delay="indefinite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dur="indefinite" fill="hold">
                      <p:stCondLst>
                        <p:cond delay="indefinite"/>
                      </p:stCondLst>
                      <p:childTnLst>
                        <p:par>
                          <p:cTn id="1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dur="indefinite" fill="hold">
                      <p:stCondLst>
                        <p:cond delay="indefinite"/>
                      </p:stCondLst>
                      <p:childTnLst>
                        <p:par>
                          <p:cTn id="1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dur="indefinite" fill="hold">
                      <p:stCondLst>
                        <p:cond delay="indefinite"/>
                      </p:stCondLst>
                      <p:childTnLst>
                        <p:par>
                          <p:cTn id="1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2T12:42:36Z</dcterms:created>
  <dc:creator/>
  <dc:description/>
  <dc:language>en-US</dc:language>
  <cp:lastModifiedBy/>
  <cp:revision>1</cp:revision>
  <dc:subject/>
  <dc:title/>
</cp:coreProperties>
</file>